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3.png" ContentType="image/png"/>
  <Override PartName="/ppt/media/image12.jpeg" ContentType="image/jpe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E7D-AB77-4320-BE44-06D328C3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BB3-B040-4BBC-940F-B16ED0A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37C-7593-4027-967C-919E655A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4C1-24ED-4ED1-B9AD-97AAD670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ABEF-4B29-40BC-9664-E5A44E27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C576-841E-47C1-9540-C416AD0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94F8-57A8-4577-A8DB-DC33D1E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1A9B-E1D3-4A5B-B347-1815DA1D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7CF-4633-4E44-B705-D38FE60B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F9A-71BB-4523-A401-FF29C93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2205-CF1D-4C5A-8FB6-5444F53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825-889D-444D-BD07-97ED6A7C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4508-DBC4-4D06-95F0-364E55C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A97-D7CA-47D6-95B1-90F6879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C621-D661-436D-AA02-A396902A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B15-5E8F-4278-80C9-FA710A72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89FF-813D-4929-84E1-7493C8ED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D41A-2F3E-4943-AF22-64C2B39D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5D22-7A67-475A-AE53-5C33726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5E35-2DC2-4FB4-8ACB-9C487425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749C-950D-4503-9A42-DAD8E48B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5ED3-7D00-4BA6-918A-577322D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547-61E4-4F81-A98C-D7A49BB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8728-BE82-487A-BB87-51665294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CC71-1EC7-4057-A490-4760FA8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4004-F636-429B-8373-C45E222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3C2E-3A55-4327-AE4B-CECFFCF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271B-23E0-4491-8D2F-5A364577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9192-121D-4DD4-9796-FC7F52DA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7865-A95C-4852-B5CA-F4C6B4F4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5228-7E54-4FD7-A46A-A8DFB0D4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96AB-BF04-4227-91DA-A3B67F8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B695-8D9E-4E9B-BEE3-A0228D16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BA7-7259-4217-8FFD-F1677D2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05DB-FC7A-40A2-A065-AC7CCA97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4B69-E109-431B-ADF3-5659D883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2A57-BE18-483E-BFBE-4613EC0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04D3-0193-453D-A7AB-879B874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45E8-A849-43E6-8C4B-E2E6E7F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BD72-2F4E-4BA7-8963-AE79CD0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EB28-743E-4A22-9600-3566D911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104C-B93F-4D29-B010-B2941EEB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1594-9C83-4871-9DED-61164A35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131C-E6E8-43B4-8A00-15D02269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44B-DA25-41B8-8A49-CD2CB296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4AEA-E00E-46AD-BEE9-0FA9C837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58A7-96E0-4773-AE13-CE3EB97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39B1-7AF3-4E50-980A-61AFE81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E030-843F-4290-9091-B2AACD4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A143-A991-474A-9ED4-472437D4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2B8D-8DA2-4D44-A0BE-3F944DC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F8DC-FA35-4C28-A990-C9D1BFF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05CB-B1EC-4843-A734-8BD8AD0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CA5F-4F99-4439-99B0-56B76F1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C8C6-4502-4457-A070-E125F554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E50-39BD-4809-92D8-E805E98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14C9-5F2B-4780-9CE9-685ADB57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B6B4-80C6-49E1-861D-0DBDB1F0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786FB-0F32-4FE8-A04F-B3F930CB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D4E8-9CBB-419F-8736-A3D59CC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0345-37C3-4080-A75C-A906C3A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3E61-EA43-4972-A64B-C7C66E05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E239-BF46-4066-AD26-74815B7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6D92-E7BC-41D1-A09A-9AB671A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AE80F-0A7F-440D-A038-0D4DABD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0C70-3450-4477-AF1E-3A96897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F21-2E73-410E-8C6B-363CD5C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CEDF-0772-463C-8D14-C4EF513E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C187-1DE2-4297-AF0D-51A6CD0C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A0A4-85B3-4E31-881A-5A2B5794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3934-586F-46B5-B5E8-5554387D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4C9E3-05DD-4FE6-8DB1-33425D57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7CEB-BC0C-414A-9426-25DD7C7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16AC1-57F8-4BBC-8E3C-BE9A904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573F-E4E4-4E21-ABBD-9308591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36E0F-8ACD-42F5-AA8C-23841431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0B12-78CE-46A6-88E4-5459ABF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23C-95AE-4B54-9DC0-31C07EE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7E35E-F416-49DF-9B3B-ED12A7D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F3C9E-4786-4AE8-8DD1-938C755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0EF2-7A9A-4E68-B3E9-7078E31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2265-2B29-4A31-8D17-FB0EAFDD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9455-5D93-4650-B41C-BAA46578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8566-0D90-40D4-B0CC-8F09799E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57507-C6E7-4504-A927-40DC33A8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22FAA-7CA7-46FD-A2D9-E39DAAF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F574-7139-4359-8609-030BA12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9E41-E1B2-411D-8DF3-09EA068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70E-FA04-48B3-A27C-56D66A4B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3A99-37E7-4856-B212-D8D63A2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4AB6-1E48-40BF-AC38-C038A29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0BD8-3F7C-4197-9874-61F0510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0B4E-DD0D-436A-BCA5-D5078FD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5F24-3F96-4A6C-BE13-B8464D5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FDF19-7187-4922-8F68-3D0581B5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E91FF-63CA-4998-93F0-0F8CC453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8DA-CA75-4CC7-B4AD-B85B2E636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19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20 Conector recto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761-BB50-4B34-B957-D8161B1062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2BD6-7CFA-43CA-8C63-130D33AAB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92C-DC99-4FCC-83F5-E49BA5804C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ED0B-0BA1-44A7-B08A-F964AC1767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5E0A-8973-4286-AEB9-C153ED85DA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4B05-B494-43DF-AFF8-C873D3EF03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16 Triángulo rectángulo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18 Conector recto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48CB-BD5F-42E7-A35A-466CB81096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sole-kids.wikispaces.com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396" name="3 Imagen" descr="kids wiki 1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15080"/>
          </a:xfrm>
          <a:prstGeom prst="rect">
            <a:avLst/>
          </a:prstGeom>
          <a:ln w="0">
            <a:noFill/>
          </a:ln>
        </p:spPr>
      </p:pic>
      <p:sp>
        <p:nvSpPr>
          <p:cNvPr id="397" name="4 CuadroTexto"/>
          <p:cNvSpPr/>
          <p:nvPr/>
        </p:nvSpPr>
        <p:spPr>
          <a:xfrm>
            <a:off x="1752480" y="304920"/>
            <a:ext cx="60199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sole-kids.wikispaces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2 Título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7 Marcador de contenido" descr="kids wiki 8.jpg"/>
          <p:cNvPicPr/>
          <p:nvPr/>
        </p:nvPicPr>
        <p:blipFill>
          <a:blip r:embed="rId2"/>
          <a:stretch/>
        </p:blipFill>
        <p:spPr>
          <a:xfrm>
            <a:off x="457200" y="1600200"/>
            <a:ext cx="86868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426" name="9 Conector recto de flecha"/>
          <p:cNvCxnSpPr/>
          <p:nvPr/>
        </p:nvCxnSpPr>
        <p:spPr>
          <a:xfrm>
            <a:off x="1523520" y="1218960"/>
            <a:ext cx="2515320" cy="1905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427" name="12 Conector curvado"/>
          <p:cNvCxnSpPr/>
          <p:nvPr/>
        </p:nvCxnSpPr>
        <p:spPr>
          <a:xfrm flipH="1" rot="16200000">
            <a:off x="2438280" y="1218960"/>
            <a:ext cx="1982160" cy="167688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428" name="14 Conector curvado"/>
          <p:cNvCxnSpPr/>
          <p:nvPr/>
        </p:nvCxnSpPr>
        <p:spPr>
          <a:xfrm flipH="1" rot="16200000">
            <a:off x="2895480" y="1752120"/>
            <a:ext cx="190548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3 Marcador de contenido" descr="kids wiki 9.jpg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00400"/>
          </a:xfrm>
          <a:prstGeom prst="rect">
            <a:avLst/>
          </a:prstGeom>
          <a:ln w="0">
            <a:noFill/>
          </a:ln>
        </p:spPr>
      </p:pic>
      <p:pic>
        <p:nvPicPr>
          <p:cNvPr id="430" name="2 Título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31" name="5 Conector recto de flecha"/>
          <p:cNvCxnSpPr/>
          <p:nvPr/>
        </p:nvCxnSpPr>
        <p:spPr>
          <a:xfrm>
            <a:off x="3199320" y="1218960"/>
            <a:ext cx="610200" cy="1524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32" name="7 Elipse"/>
          <p:cNvSpPr/>
          <p:nvPr/>
        </p:nvSpPr>
        <p:spPr>
          <a:xfrm>
            <a:off x="3429000" y="2362320"/>
            <a:ext cx="914400" cy="838080"/>
          </a:xfrm>
          <a:prstGeom prst="ellipse">
            <a:avLst/>
          </a:prstGeom>
          <a:noFill/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3 Marcador de contenido" descr="kids wiki 10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34" name="2 Título" descr=""/>
          <p:cNvPicPr/>
          <p:nvPr/>
        </p:nvPicPr>
        <p:blipFill>
          <a:blip r:embed="rId2"/>
          <a:stretch/>
        </p:blipFill>
        <p:spPr>
          <a:xfrm>
            <a:off x="401760" y="298440"/>
            <a:ext cx="83707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35" name="7 Conector recto de flecha"/>
          <p:cNvCxnSpPr/>
          <p:nvPr/>
        </p:nvCxnSpPr>
        <p:spPr>
          <a:xfrm flipH="1">
            <a:off x="2514240" y="837000"/>
            <a:ext cx="5334480" cy="205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3 Marcador de contenido" descr="kids wiki 11.jpg"/>
          <p:cNvPicPr/>
          <p:nvPr/>
        </p:nvPicPr>
        <p:blipFill>
          <a:blip r:embed="rId1"/>
          <a:stretch/>
        </p:blipFill>
        <p:spPr>
          <a:xfrm>
            <a:off x="838080" y="1143000"/>
            <a:ext cx="7166160" cy="4876920"/>
          </a:xfrm>
          <a:prstGeom prst="rect">
            <a:avLst/>
          </a:prstGeom>
          <a:ln w="0">
            <a:noFill/>
          </a:ln>
        </p:spPr>
      </p:pic>
      <p:pic>
        <p:nvPicPr>
          <p:cNvPr id="437" name="2 Título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837072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4 Rectángulo"/>
          <p:cNvSpPr/>
          <p:nvPr/>
        </p:nvSpPr>
        <p:spPr>
          <a:xfrm>
            <a:off x="2057400" y="4648320"/>
            <a:ext cx="1828800" cy="380880"/>
          </a:xfrm>
          <a:prstGeom prst="rect">
            <a:avLst/>
          </a:prstGeom>
          <a:noFill/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3 Marcador de contenido" descr="kids wiki 12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3471840"/>
          </a:xfrm>
          <a:prstGeom prst="rect">
            <a:avLst/>
          </a:prstGeom>
          <a:ln w="0">
            <a:noFill/>
          </a:ln>
        </p:spPr>
      </p:pic>
      <p:pic>
        <p:nvPicPr>
          <p:cNvPr id="440" name="2 Título" descr=""/>
          <p:cNvPicPr/>
          <p:nvPr/>
        </p:nvPicPr>
        <p:blipFill>
          <a:blip r:embed="rId2"/>
          <a:stretch/>
        </p:blipFill>
        <p:spPr>
          <a:xfrm>
            <a:off x="328680" y="378000"/>
            <a:ext cx="8364600" cy="725400"/>
          </a:xfrm>
          <a:prstGeom prst="rect">
            <a:avLst/>
          </a:prstGeom>
          <a:ln w="0">
            <a:noFill/>
          </a:ln>
        </p:spPr>
      </p:pic>
      <p:sp>
        <p:nvSpPr>
          <p:cNvPr id="441" name="5 CuadroTexto"/>
          <p:cNvSpPr/>
          <p:nvPr/>
        </p:nvSpPr>
        <p:spPr>
          <a:xfrm>
            <a:off x="175248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Don’t forget to click on po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42" name="7 Conector recto de flecha"/>
          <p:cNvCxnSpPr/>
          <p:nvPr/>
        </p:nvCxnSpPr>
        <p:spPr>
          <a:xfrm flipH="1">
            <a:off x="3199680" y="838080"/>
            <a:ext cx="1067400" cy="2439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3" name="9 Conector recto de flecha"/>
          <p:cNvCxnSpPr/>
          <p:nvPr/>
        </p:nvCxnSpPr>
        <p:spPr>
          <a:xfrm flipV="1">
            <a:off x="5562720" y="4494960"/>
            <a:ext cx="915120" cy="762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Post a message on the discussion tab for your SOLE…Examp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omic Sans MS"/>
              </a:rPr>
              <a:t>ENJOY!!!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2 Título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957240"/>
          </a:xfrm>
          <a:prstGeom prst="rect">
            <a:avLst/>
          </a:prstGeom>
          <a:ln w="0">
            <a:noFill/>
          </a:ln>
        </p:spPr>
      </p:pic>
      <p:pic>
        <p:nvPicPr>
          <p:cNvPr id="446" name="3 Imagen" descr="kids wiki 14.jpg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986280"/>
          </a:xfrm>
          <a:prstGeom prst="rect">
            <a:avLst/>
          </a:prstGeom>
          <a:ln w="0">
            <a:noFill/>
          </a:ln>
        </p:spPr>
      </p:pic>
      <p:cxnSp>
        <p:nvCxnSpPr>
          <p:cNvPr id="447" name="5 Conector recto de flecha"/>
          <p:cNvCxnSpPr/>
          <p:nvPr/>
        </p:nvCxnSpPr>
        <p:spPr>
          <a:xfrm flipH="1">
            <a:off x="2895120" y="1522800"/>
            <a:ext cx="182952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48" name="7 CuadroTexto"/>
          <p:cNvSpPr/>
          <p:nvPr/>
        </p:nvSpPr>
        <p:spPr>
          <a:xfrm>
            <a:off x="2209680" y="5943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We’ll answer ASAP (as soon as possible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17375e"/>
                </a:solidFill>
                <a:latin typeface="Comic Sans MS"/>
              </a:rPr>
              <a:t>ENJOY!!!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3 Marcador de contenido" descr="kids wiki 2.jpg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06800"/>
          </a:xfrm>
          <a:prstGeom prst="rect">
            <a:avLst/>
          </a:prstGeom>
          <a:ln w="0">
            <a:noFill/>
          </a:ln>
        </p:spPr>
      </p:pic>
      <p:pic>
        <p:nvPicPr>
          <p:cNvPr id="39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0" name="5 Conector recto de flecha"/>
          <p:cNvCxnSpPr/>
          <p:nvPr/>
        </p:nvCxnSpPr>
        <p:spPr>
          <a:xfrm flipH="1">
            <a:off x="1294560" y="837720"/>
            <a:ext cx="1600920" cy="2591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Marcador de contenido" descr="kids wiki 3.jpg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105160"/>
          </a:xfrm>
          <a:prstGeom prst="rect">
            <a:avLst/>
          </a:prstGeom>
          <a:ln w="0">
            <a:noFill/>
          </a:ln>
        </p:spPr>
      </p:pic>
      <p:pic>
        <p:nvPicPr>
          <p:cNvPr id="402" name="1 Título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3" name="5 Conector recto de flecha"/>
          <p:cNvCxnSpPr/>
          <p:nvPr/>
        </p:nvCxnSpPr>
        <p:spPr>
          <a:xfrm flipH="1">
            <a:off x="1371240" y="990360"/>
            <a:ext cx="2210400" cy="3886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5 Marcador de contenido" descr="kids wiki 4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06" name="20 Conector angular"/>
          <p:cNvCxnSpPr/>
          <p:nvPr/>
        </p:nvCxnSpPr>
        <p:spPr>
          <a:xfrm>
            <a:off x="5181120" y="1219320"/>
            <a:ext cx="1143720" cy="9151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3 Marcador de contenido" descr="kids wiki 5.jpg"/>
          <p:cNvPicPr/>
          <p:nvPr/>
        </p:nvPicPr>
        <p:blipFill>
          <a:blip r:embed="rId1"/>
          <a:stretch/>
        </p:blipFill>
        <p:spPr>
          <a:xfrm>
            <a:off x="950760" y="1219320"/>
            <a:ext cx="7242480" cy="4787640"/>
          </a:xfrm>
          <a:prstGeom prst="rect">
            <a:avLst/>
          </a:prstGeom>
          <a:ln w="0">
            <a:noFill/>
          </a:ln>
        </p:spPr>
      </p:pic>
      <p:pic>
        <p:nvPicPr>
          <p:cNvPr id="408" name="2 Título" descr=""/>
          <p:cNvPicPr/>
          <p:nvPr/>
        </p:nvPicPr>
        <p:blipFill>
          <a:blip r:embed="rId2"/>
          <a:stretch/>
        </p:blipFill>
        <p:spPr>
          <a:xfrm>
            <a:off x="401760" y="225360"/>
            <a:ext cx="8291520" cy="927000"/>
          </a:xfrm>
          <a:prstGeom prst="rect">
            <a:avLst/>
          </a:prstGeom>
          <a:ln w="0">
            <a:noFill/>
          </a:ln>
        </p:spPr>
      </p:pic>
      <p:sp>
        <p:nvSpPr>
          <p:cNvPr id="409" name="4 CuadroTexto"/>
          <p:cNvSpPr/>
          <p:nvPr/>
        </p:nvSpPr>
        <p:spPr>
          <a:xfrm>
            <a:off x="4876920" y="3276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omic Sans MS"/>
              </a:rPr>
              <a:t>And click sign in agai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10" name="6 Conector recto de flecha"/>
          <p:cNvCxnSpPr>
            <a:stCxn id="409" idx="1"/>
          </p:cNvCxnSpPr>
          <p:nvPr/>
        </p:nvCxnSpPr>
        <p:spPr>
          <a:xfrm flipH="1" flipV="1">
            <a:off x="4419360" y="3352320"/>
            <a:ext cx="457920" cy="108720"/>
          </a:xfrm>
          <a:prstGeom prst="straightConnector1">
            <a:avLst/>
          </a:prstGeom>
          <a:ln w="1260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2 Título" descr=""/>
          <p:cNvPicPr/>
          <p:nvPr/>
        </p:nvPicPr>
        <p:blipFill>
          <a:blip r:embed="rId1"/>
          <a:stretch/>
        </p:blipFill>
        <p:spPr>
          <a:xfrm>
            <a:off x="328680" y="225360"/>
            <a:ext cx="836460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6 Marcador de contenido" descr="kids wiki 6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13" name="8 Conector recto de flecha"/>
          <p:cNvCxnSpPr/>
          <p:nvPr/>
        </p:nvCxnSpPr>
        <p:spPr>
          <a:xfrm flipH="1">
            <a:off x="2590560" y="1141920"/>
            <a:ext cx="5029920" cy="1067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3 Marcador de contenido" descr="kids wiki 7.jpg"/>
          <p:cNvPicPr/>
          <p:nvPr/>
        </p:nvPicPr>
        <p:blipFill>
          <a:blip r:embed="rId1"/>
          <a:stretch/>
        </p:blipFill>
        <p:spPr>
          <a:xfrm>
            <a:off x="950760" y="1295280"/>
            <a:ext cx="7242480" cy="4711680"/>
          </a:xfrm>
          <a:prstGeom prst="rect">
            <a:avLst/>
          </a:prstGeom>
          <a:ln w="0">
            <a:noFill/>
          </a:ln>
        </p:spPr>
      </p:pic>
      <p:pic>
        <p:nvPicPr>
          <p:cNvPr id="415" name="2 Título" descr=""/>
          <p:cNvPicPr/>
          <p:nvPr/>
        </p:nvPicPr>
        <p:blipFill>
          <a:blip r:embed="rId2"/>
          <a:stretch/>
        </p:blipFill>
        <p:spPr>
          <a:xfrm>
            <a:off x="347760" y="231840"/>
            <a:ext cx="8345520" cy="1195200"/>
          </a:xfrm>
          <a:prstGeom prst="rect">
            <a:avLst/>
          </a:prstGeom>
          <a:ln w="0">
            <a:noFill/>
          </a:ln>
        </p:spPr>
      </p:pic>
      <p:cxnSp>
        <p:nvCxnSpPr>
          <p:cNvPr id="416" name="6 Conector recto de flecha"/>
          <p:cNvCxnSpPr/>
          <p:nvPr/>
        </p:nvCxnSpPr>
        <p:spPr>
          <a:xfrm>
            <a:off x="4419720" y="990360"/>
            <a:ext cx="762480" cy="3429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3 Marcador de contenido" descr="kids wiki 6b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18" name="2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3455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19" name="5 Conector recto de flecha"/>
          <p:cNvCxnSpPr/>
          <p:nvPr/>
        </p:nvCxnSpPr>
        <p:spPr>
          <a:xfrm>
            <a:off x="3275640" y="1142640"/>
            <a:ext cx="686520" cy="2896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20" name="6 CuadroTexto"/>
          <p:cNvSpPr/>
          <p:nvPr/>
        </p:nvSpPr>
        <p:spPr>
          <a:xfrm>
            <a:off x="54864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mic Sans MS"/>
              </a:rPr>
              <a:t>Another option: write on a Word document, and then transfer to wiki pag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3 Marcador de contenido" descr="kids wiki 6c.jpg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422" name="2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34552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23" name="5 Conector recto de flecha"/>
          <p:cNvCxnSpPr/>
          <p:nvPr/>
        </p:nvCxnSpPr>
        <p:spPr>
          <a:xfrm>
            <a:off x="5638680" y="838080"/>
            <a:ext cx="1829520" cy="1372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3:08:47Z</dcterms:created>
  <dc:creator>MABEL</dc:creator>
  <dc:description/>
  <dc:language>en-US</dc:language>
  <cp:lastModifiedBy>MABEL</cp:lastModifiedBy>
  <dcterms:modified xsi:type="dcterms:W3CDTF">2009-10-24T01:50:50Z</dcterms:modified>
  <cp:revision>26</cp:revision>
  <dc:subject/>
  <dc:title>Diapositiva 1</dc:title>
</cp:coreProperties>
</file>